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9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9DA-28BA-40FB-A583-B5BF90FB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237-92FE-4D6B-B0F5-8D1846F5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A4FE-4E18-42B1-BCD5-7AABD81F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726A-89DD-481D-A3C9-F215B8FB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427A-9C5C-44FB-8D74-87555072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127E-620D-4214-ADD8-9233B0D4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E63B-7008-4AD8-945C-40EB14AC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EE08-233D-49BD-9FFE-CF4508DF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A3BF-8461-45D1-8539-99400251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60C9-DEBE-426D-B4B4-CFEEAFB9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16E9-869F-4716-A942-F85F853C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7593-C551-46F5-B723-81D57C47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63A2-CCB2-47CE-9716-C57F0999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3014-B097-4BB2-8140-9C99BA85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88F8-18ED-4129-A551-BD4D15EC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EAC8-5496-4976-B0F7-154314A0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64B5-7120-4CFF-8716-454E03A1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B4EBB-C9E7-4524-AE78-EC859BCF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D69C4-E094-464A-89D7-052BD781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F32CA-87CE-4C06-8E95-4F0B1104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6B75E-CD07-44BA-B955-5268C869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3B3CB-4985-4FE3-8EA0-15D6CD5A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E6E-1611-4F5E-9770-ADD70764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D7B5C-729D-4AEF-BABB-04154A0C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FA928-8B56-4D84-9816-9CFD1D78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261F0-24EC-4C7B-9C63-4C33AB71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00798-9010-4B45-98F4-4DBE5BD2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08B39-EAB1-459B-B444-F6E6F065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87E1B-562C-4EF7-99F8-4D251C4D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F7D0C-F262-4694-9F66-E087FCC7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46F7FF-B49E-4BBA-9397-7E225B08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AEA17B-4D07-4516-B3D6-8DBACF01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0FBDA9-7957-4D8E-A80B-B86F2A14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A765-3830-46AF-920C-1653FA2B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A6BC92-2CE7-441E-952C-F47AA6D2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94D56-E6BC-4178-B662-621E1954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1D13C3-4310-4123-831C-5AF143AA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F5D4A-0682-4AB7-84B8-FDE2DF87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BD113-F9DB-4147-9F48-EB2C16FE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356C33-B488-45E9-A235-38AB913A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A2024C-040F-4F3C-A8BC-51B99BD7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198353-748B-437B-8106-8268284C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B7FFEB-B1F1-49F7-826A-C6025093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44F72-008A-446C-AFEA-5C25D9A8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516-4131-4A07-97F9-6C3445B2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52FCA-2C25-451F-81CA-9DD84925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63C53-B437-4C39-918D-3F93586F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E8F7D-7403-47A4-8689-03CF2429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07EB8-74CD-4378-B707-5A06B2AE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44452-C34D-4CFE-A5D7-21554965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CCD51-AC87-447D-A802-0FC2D3AA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4EF3C-D319-477D-8A5D-E6CEC504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236DE-0659-4F6E-AFCE-7FA46199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58CB1-F225-4559-8424-6503AA83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91D51-A71C-4AC2-B188-58A3FAA1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3C3-D8A5-4E40-B26B-1F5E66BD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72FD0-1F61-4414-9E8E-AE66739A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CBB7B-FBD9-4944-96E4-96755CE8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F506A-0C7E-4931-B69C-47E25E23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DCBB3-5635-43B7-BE3C-34B73BC3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20852-AE95-44EB-B358-57F8C79C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D829D-1823-4CA8-B5C6-BAE787EA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D34EE-F156-43D4-BCB1-0CF82F12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85968-C0C6-4A86-BEEE-4E5D46F7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54BBC-9DAA-4ABD-B4ED-3BADE7EB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BFDA0-AA60-4DB5-995A-1163E3AB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B4C-C3DA-49EC-AE46-1EA7F83A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2E496-42F0-41F7-939B-59CFA673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A88C6-FB89-465E-8C5A-D9D4182C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44BCA-9237-4973-94A7-C38F2B70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FF54D-1748-4CF9-A8A1-B22E6226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CBFEB-3229-47B5-8F53-FC77B899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B2702-4A63-433A-8B65-2F0D5C0F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A6402-23FF-4057-AF3D-9D1CB7B2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821EF-59D5-40BC-B7A3-5AD2EA1E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7B375-A333-4909-95F5-4A2951BA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E1A6F-15C3-4E83-AE97-23769B03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547-EB21-49B4-A43B-FA94724B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97DA0-0724-4017-9EE5-27381539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8360A-1B61-4704-A069-8A8457B7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17E43-3BF2-441A-B911-3C8C4F6B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DF9B2-86B7-4833-A91E-7833D2E7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67850-0CB5-4E21-80B8-EA19CC40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BA6C-5AD5-400E-AC47-586E862A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73.xml"/><Relationship Id="rId32" Type="http://schemas.openxmlformats.org/officeDocument/2006/relationships/slideLayout" Target="../slideLayouts/slideLayout74.xml"/><Relationship Id="rId33" Type="http://schemas.openxmlformats.org/officeDocument/2006/relationships/slideLayout" Target="../slideLayouts/slideLayout75.xml"/><Relationship Id="rId34" Type="http://schemas.openxmlformats.org/officeDocument/2006/relationships/slideLayout" Target="../slideLayouts/slideLayout76.xml"/><Relationship Id="rId35" Type="http://schemas.openxmlformats.org/officeDocument/2006/relationships/slideLayout" Target="../slideLayouts/slideLayout77.xml"/><Relationship Id="rId36" Type="http://schemas.openxmlformats.org/officeDocument/2006/relationships/slideLayout" Target="../slideLayouts/slideLayout78.xml"/><Relationship Id="rId37" Type="http://schemas.openxmlformats.org/officeDocument/2006/relationships/slideLayout" Target="../slideLayouts/slideLayout79.xml"/><Relationship Id="rId38" Type="http://schemas.openxmlformats.org/officeDocument/2006/relationships/slideLayout" Target="../slideLayouts/slideLayout80.xml"/><Relationship Id="rId39" Type="http://schemas.openxmlformats.org/officeDocument/2006/relationships/slideLayout" Target="../slideLayouts/slideLayout81.xml"/><Relationship Id="rId40" Type="http://schemas.openxmlformats.org/officeDocument/2006/relationships/slideLayout" Target="../slideLayouts/slideLayout82.xml"/><Relationship Id="rId41" Type="http://schemas.openxmlformats.org/officeDocument/2006/relationships/slideLayout" Target="../slideLayouts/slideLayout83.xml"/><Relationship Id="rId4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145F-B73C-4263-B68C-F7F4365F5D1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7636-6BBA-43EF-96A2-7083ABD98F3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90EE-0B27-48E7-B298-CD04B8955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122E-B142-43E0-9BF7-025D954D72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98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41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6284-C1F3-4470-9CA0-665D029ED4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45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0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2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4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B653-80B9-454F-B419-A906C66387B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0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C8F7-B80A-48CF-863A-C97603F933B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1"/>
    <p:sldLayoutId id="2147483728" r:id="rId32"/>
    <p:sldLayoutId id="2147483729" r:id="rId33"/>
    <p:sldLayoutId id="2147483730" r:id="rId34"/>
    <p:sldLayoutId id="2147483731" r:id="rId35"/>
    <p:sldLayoutId id="2147483732" r:id="rId36"/>
    <p:sldLayoutId id="2147483733" r:id="rId37"/>
    <p:sldLayoutId id="2147483734" r:id="rId38"/>
    <p:sldLayoutId id="2147483735" r:id="rId39"/>
    <p:sldLayoutId id="2147483736" r:id="rId40"/>
    <p:sldLayoutId id="2147483737" r:id="rId41"/>
    <p:sldLayoutId id="2147483738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228600" y="304920"/>
            <a:ext cx="53341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Ancient Egyptian</a:t>
            </a:r>
            <a:endParaRPr b="1" lang="en-US" sz="28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 </a:t>
            </a: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Science </a:t>
            </a:r>
            <a:endParaRPr b="1" lang="en-US" sz="28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and Medicine</a:t>
            </a:r>
            <a:endParaRPr b="1" lang="en-US" sz="28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4952880"/>
            <a:ext cx="2933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By: Emily Ehrlich,</a:t>
            </a:r>
            <a:endParaRPr b="1" lang="en-US" sz="24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Sara Baran, </a:t>
            </a:r>
            <a:endParaRPr b="1" lang="en-US" sz="24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and Gabbi Stobb</a:t>
            </a:r>
            <a:endParaRPr b="1" lang="en-US" sz="24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0" y="66294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614" fill="hold"/>
                                        <p:tgtEl>
                                          <p:spTgt spid="6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 Narrow"/>
              </a:rPr>
              <a:t>Introdu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On top of the Ancient Egyptians’ developments in writing, they made advances in fields of astronomy, mathematics, and med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mong citizens of the ancient world, Egypt was known as a land of great and highly valued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empus Sans ITC"/>
              </a:rPr>
              <a:t>Keeping Track of Tim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Since the Egyptians were agricultural people, they had to be capable of predicting when the Nile River would fl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Astronomers, scientists who study stars and other objects in the sky, noticed that the Nile began to rise rapidly at about the same time that they were able to see Sir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Sirius, otherwise known as the dog star, could be seen in the sky shortly before sunr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Astronomers worked out the approximate time between the appearances of Siriu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They found that it came to approximately three hundred sixty-five days, so it became the length of their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urlz MT"/>
              </a:rPr>
              <a:t>Mathematic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he Egyptians used basic mathematics in finding solutions to conflicts they faced every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hey could add, subtract, multiply, and div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he Egyptians utilized simple fractions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Math helped them measure stone in order for it to be cut to the proper size to build pyram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Geometry was used to measure area so the Egyptians could figure out the quantity of taxes for a plot of land.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3" dur="500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Arial"/>
              </a:rPr>
              <a:t>Medicine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Religion and medicine went hand in hand in ancient Egypt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Doctors were specially trained priests that used religious practices and their knowledge of diseases to attempt to heal the ill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Supposedly, because of their work on  mummies, the ancient Egyptians knew a great deal of information about the bod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By studying the human body, they learned how to give surgery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The set broken bones, and treated many slight injuri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8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41" fill="hold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4" dur="2000" fill="hold"/>
                                        <p:tgtEl>
                                          <p:spTgt spid="7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30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3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radley Hand ITC"/>
              </a:rPr>
              <a:t>Medicine (continued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 Egyptians understood the concept of herbal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erbalism is the practice of composing medicines from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 natural remedies were used to help ease common, everyday sicknesses such as headaches and stomachach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At home, mothers prepared their own remedies, or cures, to reduce their children’s fe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 Egyptians wrote a lot of their medical knowledge down on papyrus, which the ancient Greeks and Romans used centuries later.  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475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2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7696080" y="5105520"/>
            <a:ext cx="1148040" cy="16002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154160" cy="186840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228600" y="5181480"/>
            <a:ext cx="1924200" cy="153684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4"/>
          <a:stretch/>
        </p:blipFill>
        <p:spPr>
          <a:xfrm>
            <a:off x="7010280" y="3049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 txBox="1"/>
          <p:nvPr/>
        </p:nvSpPr>
        <p:spPr>
          <a:xfrm>
            <a:off x="457200" y="2209680"/>
            <a:ext cx="86868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Jokerman"/>
              </a:rPr>
              <a:t>We Hope You Enjoyed Ou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Jokerman"/>
              <a:ea typeface="Joker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Jokerman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Jokerman"/>
              </a:rPr>
              <a:t>Presentation And Learned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Jokerman"/>
              <a:ea typeface="Joker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Jokerman"/>
              </a:rPr>
              <a:t>A Lot!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Jokerman"/>
              <a:ea typeface="Joker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5"/>
          <a:stretch/>
        </p:blipFill>
        <p:spPr>
          <a:xfrm>
            <a:off x="77724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9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577" dur="1230" fill="hold"/>
                                        <p:tgtEl>
                                          <p:spTgt spid="71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578" dur="123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57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580" dur="123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58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2" dur="10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713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713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0" dur="1996" fill="hold"/>
                                        <p:tgtEl>
                                          <p:spTgt spid="7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7:56:51Z</dcterms:created>
  <dc:creator>William Ehrlich</dc:creator>
  <dc:description/>
  <dc:language>en-US</dc:language>
  <cp:lastModifiedBy>Default</cp:lastModifiedBy>
  <dcterms:modified xsi:type="dcterms:W3CDTF">2009-01-15T17:34:02Z</dcterms:modified>
  <cp:revision>17</cp:revision>
  <dc:subject/>
  <dc:title>Slide 1</dc:title>
</cp:coreProperties>
</file>